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6E0-0D3C-4F67-B0F6-FE56C403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071-1082-40BA-8671-86B6BB20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D09-CA1F-4896-8A43-4C36C7A1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240120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6440" y="5638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5029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240120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26440" y="7788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756-3C8A-4319-81A3-F530C6B5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A2C-0742-430B-9853-8F6122BB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6E8-93B7-4CA7-A1F0-DBA43B25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AC8-1149-42B0-B410-D05CBACE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79D6-0DA8-44D8-99BC-ABA6A919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871440"/>
            <a:ext cx="8001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F0E3-989E-4006-B934-A622A6E0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054-3A4E-4DDF-9595-D7C89875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1046520" y="7788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F26-EC7B-494D-BE92-38CAE50C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502920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1046520" y="5638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5029200" y="7788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87DA-D820-4690-9C46-00FE7343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5029200" y="5638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9630-1A97-49A2-B462-735EF2ACF80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B550-CE9D-436A-80E7-26A3739F9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4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2.xml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rste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eihnach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mi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amma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Das was jemand arbeitet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ein Beruf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Es ist am 31 Dezember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Sylwester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Einmal im Jahr am 25 und 26 Dezember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sind Weihnachte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Er kommt und verteilt Geschenke an den Kindern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er ist der Weihnachtsman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enn er f</a:t>
            </a:r>
            <a:r>
              <a:rPr b="0" lang="de-DE" sz="6600" spc="-1" strike="noStrike">
                <a:solidFill>
                  <a:srgbClr val="ffffff"/>
                </a:solidFill>
                <a:latin typeface="Comic Sans MS"/>
              </a:rPr>
              <a:t>ällt ist alles weiß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Schne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ein …. ist Kate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as Fahrzeug vom Weihnachtsmann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ein Schlitte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Sie ist die Frau meines Vater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er ist meine Mutter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Sie sind meine Eltern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er sind meine Mutter und mein Vater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Der Bruder meiner Schwester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er ist mein Bruder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Meine Brüder und Schwestern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sind Geschwister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Nam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Der Mann der Tante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er ist der Onkel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der, die, das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sind die Artikel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Das Antonym von schwehr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leich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Das Synonym von die See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das Meer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Der Kasus in dem der Satz: “Ich bin im Kino” steht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Dativ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Ich ….. in Kocani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3PSg. vom Verb essen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“er isst”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Sie ist ein Haustier und macht “miau”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eine Katz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r lebt im Wald und ist sehr schnell.</a:t>
            </a:r>
            <a:endParaRPr b="0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ein Has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Er ist ein großes Jungletier mit großen Ohren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ein Elephant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Er ist lieb und mag keine Katzen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ein Hund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wohnen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Es ist groß, schön und mann kann es reiten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ein Pferd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Die Hauptstadt von Makedonien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ist Skopj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Ich bin 15 ..... alt.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Was sind Jahre?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Rudi Gorgiev</dc:creator>
  <dc:description/>
  <dc:language>en-US</dc:language>
  <cp:lastModifiedBy>Michael Kuyumcu</cp:lastModifiedBy>
  <dcterms:modified xsi:type="dcterms:W3CDTF">2004-01-16T19:41:32Z</dcterms:modified>
  <cp:revision>41</cp:revision>
  <dc:subject/>
  <dc:title>Jeopardy1_Misch</dc:title>
</cp:coreProperties>
</file>